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DE1-E284-41CB-B657-080C9A20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CB3-60C8-497E-A9E5-8739D37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40D-41B3-4774-BCCA-F8D7C494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EA5-07FF-441F-99D6-BBA7D822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B72-91D3-41FF-A353-A1C03C7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213-2801-4CF4-83A3-3C42A3C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CDE-65D4-46F9-87F8-C017789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DE2-0E56-4D33-BFBB-C74E1E1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D7F-1B92-421E-80D8-16FA278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4DF-3706-43F3-87BB-DD8519F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A42-6E58-43D0-B036-F00B4B7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62C-26E0-4606-B9A9-336EA6A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FF9-ED23-4F9C-843E-03A1ECA30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74960" y="927000"/>
            <a:ext cx="52974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755640" y="1841400"/>
            <a:ext cx="212724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2146320" y="1957320"/>
            <a:ext cx="28465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530440" y="2792520"/>
            <a:ext cx="24195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5"/>
          <a:stretch/>
        </p:blipFill>
        <p:spPr>
          <a:xfrm>
            <a:off x="2975040" y="3670200"/>
            <a:ext cx="257184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3475080" y="4657680"/>
            <a:ext cx="22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511280" y="622440"/>
            <a:ext cx="6267600" cy="11458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"/>
          <a:stretch/>
        </p:blipFill>
        <p:spPr>
          <a:xfrm>
            <a:off x="2871720" y="2401920"/>
            <a:ext cx="373716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2286000" y="4322880"/>
            <a:ext cx="4797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chansons preferees sont “Not Afraid”, “When I’m Gone”, et “Savio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enem et Rise Against chantent nos chansons prefer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styles de musique preferees sont rap et p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nous sentons exc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ntendons cette musique, nous sentons une sensation de pe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5" descr=""/>
          <p:cNvPicPr/>
          <p:nvPr/>
        </p:nvPicPr>
        <p:blipFill>
          <a:blip r:embed="rId1"/>
          <a:stretch/>
        </p:blipFill>
        <p:spPr>
          <a:xfrm>
            <a:off x="1006560" y="622440"/>
            <a:ext cx="6265800" cy="11458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1974960" y="2414520"/>
            <a:ext cx="4213080" cy="1938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3"/>
          <a:stretch/>
        </p:blipFill>
        <p:spPr>
          <a:xfrm>
            <a:off x="1908000" y="4705200"/>
            <a:ext cx="4797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nous sentons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ntendons cette musique, nous imaginons quelque chose la doul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1116000" y="396720"/>
            <a:ext cx="7132680" cy="11401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914560" y="2792520"/>
            <a:ext cx="30225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1450800" y="4780080"/>
            <a:ext cx="6357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8380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joue de la guitare, et j’aimerais jouer la instrument elec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entendons le rythme des instru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nous senton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ntendons cette musique, nous imaginons quelque chose a develop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432160" y="2120760"/>
            <a:ext cx="37670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2:04Z</dcterms:created>
  <dc:creator>McDonald-O'Donnell, Dalton</dc:creator>
  <dc:description/>
  <dc:language>en-US</dc:language>
  <cp:lastModifiedBy> </cp:lastModifiedBy>
  <dcterms:modified xsi:type="dcterms:W3CDTF">2010-10-21T13:10:19Z</dcterms:modified>
  <cp:revision>11</cp:revision>
  <dc:subject/>
  <dc:title>Slide 1</dc:title>
</cp:coreProperties>
</file>